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595-926C-4CB1-8C1A-13201E89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435-96DE-4E57-8F5D-7AA77A30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23E-930E-43EE-9A3A-AE3EE784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D7A-3456-4FCE-ACCA-77356AD3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7811-B2A2-4596-9F71-AC4FCCB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7C8-7AFD-42E3-8232-5352871C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8E1D-3103-48C8-B027-F3F4C8B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09E6-77E0-49F7-A4C9-30F81DF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6386-0C24-44F0-8CA2-FF6081D9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6001-B8DB-4CAE-920B-36E9AB07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5BDF-F2AE-486C-AAB5-99208B9B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CFC-CAF5-4DCC-AD69-AE3A49D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20F6-5183-48AC-838A-70CC584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C933-7864-4B30-9928-77BDD5C3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92AD-8F1E-444A-A24D-044BF891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E20A-A7D5-456C-89B7-0F7E3292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E6F2-3649-4997-8C76-6D39213C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B5A-99C3-4E97-AB83-8101EB94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912-A4C5-4B2E-A60C-2EDA506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D33-8E7A-454F-A0A4-44C11322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80D-D0A5-4D27-938A-976CB66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F82-694E-4DA6-A246-CBCE900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8C8-713A-442B-9927-2E946D6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6F0-695D-4716-95ED-D067276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EC68-1FE3-4E88-939E-479494C12E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3B2A-E6A7-40C0-8341-8B64F246BA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A Review Day 11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a frequency table of the following data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pet store has a variety of animals. Here is a list of the animals they have: cat, cat, dog, dog, bird, dog, bird, cat, dog, dog, hamster, dog, cat, hamster, hamster, hamster, dog, dog, c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:  Students will create and interpret stem and leaf pl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cabulary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-and-leaf plot: Used to organize large sets of data. They have two part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– smallest value digit in the da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 – remaining dig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xample: The leaf of the data 48 is 8. The stem is 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 How to make a stem and leaf plo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stem and leaf plot to display the data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numbers range from 12 – 78. So the least stem is 1 and the greatest stem is 7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der stems from least to greatest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2286000"/>
          <a:ext cx="8610480" cy="1917720"/>
        </p:xfrm>
        <a:graphic>
          <a:graphicData uri="http://schemas.openxmlformats.org/drawingml/2006/table">
            <a:tbl>
              <a:tblPr/>
              <a:tblGrid>
                <a:gridCol w="1101600"/>
                <a:gridCol w="1251000"/>
                <a:gridCol w="1252440"/>
                <a:gridCol w="1381320"/>
                <a:gridCol w="1120680"/>
                <a:gridCol w="1251000"/>
                <a:gridCol w="1252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tur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609480" y="1752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ily Internet Use (minut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ive:  Students will create and interpret stem and leaf plots How to make a stem and leaf pl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e the leaves next to their stems.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 7, 8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    0, 3, 8, 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   0, 2, 2, 4, 7, 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    4, 5, 9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    2, 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    0, 2, 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re your leaves are in order from least to grea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re to include a k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990720"/>
            <a:ext cx="759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295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  2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 How to make a stem and leaf plot</a:t>
            </a:r>
            <a:br>
              <a:rPr sz="2400"/>
            </a:b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 stem –and-leaf plot of the dat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8, 96, 90, 58, 69, 68, 88, 73, 59, 65, 79, 57, 46, 81, 91, 97, 94, 5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 How to make a stem and leaf plot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 stem-and-leaf plot of the data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8, 104, 121, 132, 125, 145, 128, 134, 151, 110, 139, 127, 91, 124, 1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create and interpret stem and leaf plots How to make a stem and leaf plot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a stem-and-leaf plot of the dat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.6, 3.4, 3.8, 4.9, 3.2, 5.9, 3.7, 3.6, 5.2, 5.1, 4.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:  Students will create and interpret stem and leaf plots How to make a stem and leaf plo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 at the Stem-and-leaf plot from the previous slid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range of the data valu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which stem has the most lea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Brian McGrath</cp:lastModifiedBy>
  <dcterms:modified xsi:type="dcterms:W3CDTF">2011-02-27T21:53:45Z</dcterms:modified>
  <cp:revision>12</cp:revision>
  <dc:subject/>
  <dc:title>Opener</dc:title>
</cp:coreProperties>
</file>